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10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11"/>
          </p:nvPr>
        </p:nvSpPr>
        <p:spPr>
          <a:xfrm>
            <a:off x="0" y="937872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12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C758-76EC-443E-B54C-9CCC7E6B3D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итульном слайде указывается наименование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зу – город и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376A-16FA-4F98-8077-037A3AA0F22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29DD-99E0-4C4F-82BA-925E09691143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C9EA-5A20-4084-8A11-1F5420B6080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6B7C-1518-46ED-8310-881C4ED90052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3D3B-ED16-455B-90E0-1CC4CDF750A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CB46-450D-4DE0-A212-D8EE2DCE54D1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7CDA-FB4C-4AB5-8582-15F92D7343D7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FD43-44B2-459E-98F3-75C5904E08D0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7846-3395-42DC-AADF-C50676B546F4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обновляется автомат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5E11-3D2C-4371-B771-814A0368CBEF}" type="slidenum">
              <a:rPr b="0" lang="ru-RU" sz="1200" spc="-1" strike="noStrike">
                <a:solidFill>
                  <a:srgbClr val="59595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FAC-21D3-4837-AC34-09AD759E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6DE-4BF8-48B3-B74C-33672672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BDD-CEA6-465A-AAAA-54C55B56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0D9-4898-49A4-8DB8-F870031C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7D2A-B17A-4D4A-8D9D-3C5D8690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C881-8CF6-449D-AE40-A175562F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ABC1-279F-450B-BCF0-4EC4650A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495E-AE95-48D3-9085-B8EE3775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C560-43A0-410D-9BC9-162A54D4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D773-991D-4D66-B961-9D02DF7F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CDB2-7CB1-44D5-B92B-B80D9563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984-5FEC-4F37-B755-2F1E5BBC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6131-136C-4DFE-85C0-E291F9C5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C450-F72D-45F3-A66A-0CDC4C6A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12C3-4946-4D70-83AC-5DABBD65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4BF5-A5E3-41FE-A0E1-7A40DCC6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603E-5E0E-49E5-B4A7-373DF368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594-2F0D-4BC1-9A38-1800550D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383-6B59-46A4-9B95-1036D2D0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6E73-B303-477C-91AE-8EDD31F5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5BA-3DB8-4105-8456-01EC79CF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AA54-7582-4E8E-B283-069E013D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C3A1F-A3E4-4B14-915C-854D90EC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A65B3-748E-444A-A756-2DA64396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CF14-A704-40C8-BAF5-C1A3E1F8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3C735-D617-4F33-8CFC-479243B5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24C6-6F43-4A70-B8CF-F4403468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8BFF2-084F-4DD4-9025-47179BC9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2199-5BCA-46E4-A51F-751EB178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E896D-579E-4CD0-A5B4-D5597946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FFB2-6BF2-4FDF-AC08-3D669B8E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E93-5404-4116-A9C9-551FE0F5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84589-1527-495C-90F5-BD40D1A2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954-5DEF-41BE-8AC3-5C72B09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A51-FB79-43AD-A1C0-FAF7944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7B4E-683E-4156-9FF1-3AE70FDA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971280" y="115560"/>
            <a:ext cx="80643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5920" y="3873600"/>
            <a:ext cx="8920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6840" y="105264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592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86840" y="3873600"/>
            <a:ext cx="4352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3200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48080" y="105264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592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3200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148080" y="3873600"/>
            <a:ext cx="2872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EA6E-E490-4078-8999-B51393CECF7E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543360"/>
            <a:ext cx="28954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Инвестиционный Меморандум КОНФИДЕНЦИАЛЬН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5280" y="6543360"/>
            <a:ext cx="216036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B6A4-808C-408D-A660-E4754FC1F3AC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379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10"/>
          <p:cNvSpPr/>
          <p:nvPr/>
        </p:nvSpPr>
        <p:spPr>
          <a:xfrm>
            <a:off x="4411800" y="4549680"/>
            <a:ext cx="36716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421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9"/>
          <p:cNvSpPr/>
          <p:nvPr/>
        </p:nvSpPr>
        <p:spPr>
          <a:xfrm>
            <a:off x="4421160" y="4869000"/>
            <a:ext cx="3673440" cy="28872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463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464" name="Прямоугольник 9"/>
          <p:cNvSpPr/>
          <p:nvPr/>
        </p:nvSpPr>
        <p:spPr>
          <a:xfrm>
            <a:off x="4435560" y="5213520"/>
            <a:ext cx="36716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505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9"/>
          <p:cNvSpPr/>
          <p:nvPr/>
        </p:nvSpPr>
        <p:spPr>
          <a:xfrm>
            <a:off x="4421160" y="5548320"/>
            <a:ext cx="36734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B536-9C05-4C17-8743-6BE95F4FD09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2566-007D-4EF6-AF7C-B663016802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6616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с одним вырезанным углом 7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4630680" y="6093000"/>
            <a:ext cx="43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  <a:ea typeface="Arial"/>
              </a:rPr>
              <a:t>Presentation for Grant Committee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с одним вырезанным углом 3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3"/>
          <p:cNvSpPr/>
          <p:nvPr/>
        </p:nvSpPr>
        <p:spPr>
          <a:xfrm>
            <a:off x="971640" y="115920"/>
            <a:ext cx="8064360" cy="865080"/>
          </a:xfrm>
          <a:prstGeom prst="rect">
            <a:avLst/>
          </a:pr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403200" y="115920"/>
            <a:ext cx="208080" cy="865080"/>
          </a:xfrm>
          <a:prstGeom prst="rect">
            <a:avLst/>
          </a:prstGeom>
          <a:solidFill>
            <a:srgbClr val="c8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115920" y="115920"/>
            <a:ext cx="208080" cy="865080"/>
          </a:xfrm>
          <a:prstGeom prst="rect">
            <a:avLst/>
          </a:prstGeom>
          <a:solidFill>
            <a:srgbClr val="c8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7" name="Прямоугольник 6"/>
          <p:cNvSpPr/>
          <p:nvPr/>
        </p:nvSpPr>
        <p:spPr>
          <a:xfrm>
            <a:off x="692280" y="115920"/>
            <a:ext cx="207720" cy="865080"/>
          </a:xfrm>
          <a:prstGeom prst="rect">
            <a:avLst/>
          </a:prstGeom>
          <a:solidFill>
            <a:srgbClr val="c8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115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F782-4D48-47E5-9765-D7BB8B7F3BC8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5520" y="6543360"/>
            <a:ext cx="289548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Инвестиционный Меморандум КОНФИДЕНЦИАЛЬН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875280" y="6543360"/>
            <a:ext cx="216036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a9a9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736D-FCA1-4140-A481-8CC7113ABC73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9"/>
          <p:cNvSpPr/>
          <p:nvPr/>
        </p:nvSpPr>
        <p:spPr>
          <a:xfrm>
            <a:off x="4421160" y="3240000"/>
            <a:ext cx="36734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253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10"/>
          <p:cNvSpPr/>
          <p:nvPr/>
        </p:nvSpPr>
        <p:spPr>
          <a:xfrm>
            <a:off x="4421160" y="3573360"/>
            <a:ext cx="36734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295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10"/>
          <p:cNvSpPr/>
          <p:nvPr/>
        </p:nvSpPr>
        <p:spPr>
          <a:xfrm>
            <a:off x="4421160" y="3906720"/>
            <a:ext cx="36734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с одним вырезанным углом 6"/>
          <p:cNvSpPr/>
          <p:nvPr/>
        </p:nvSpPr>
        <p:spPr>
          <a:xfrm>
            <a:off x="0" y="6543720"/>
            <a:ext cx="9144000" cy="314280"/>
          </a:xfrm>
          <a:custGeom>
            <a:avLst/>
            <a:gdLst/>
            <a:ahLst/>
            <a:rect l="l" t="t" r="r" b="b"/>
            <a:pathLst>
              <a:path w="9144000" h="314325">
                <a:moveTo>
                  <a:pt x="0" y="0"/>
                </a:moveTo>
                <a:lnTo>
                  <a:pt x="9144000" y="0"/>
                </a:lnTo>
                <a:lnTo>
                  <a:pt x="9144000" y="0"/>
                </a:lnTo>
                <a:lnTo>
                  <a:pt x="9144000" y="314325"/>
                </a:lnTo>
                <a:lnTo>
                  <a:pt x="0" y="314325"/>
                </a:lnTo>
                <a:lnTo>
                  <a:pt x="0" y="0"/>
                </a:lnTo>
                <a:close/>
              </a:path>
            </a:pathLst>
          </a:custGeom>
          <a:solidFill>
            <a:srgbClr val="64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468360" y="103320"/>
            <a:ext cx="3743280" cy="2678040"/>
          </a:xfrm>
          <a:prstGeom prst="rect">
            <a:avLst/>
          </a:prstGeom>
          <a:ln w="0">
            <a:noFill/>
          </a:ln>
        </p:spPr>
      </p:pic>
      <p:pic>
        <p:nvPicPr>
          <p:cNvPr id="337" name="TextBox 8" descr=""/>
          <p:cNvPicPr/>
          <p:nvPr/>
        </p:nvPicPr>
        <p:blipFill>
          <a:blip r:embed="rId3"/>
          <a:stretch/>
        </p:blipFill>
        <p:spPr>
          <a:xfrm>
            <a:off x="469800" y="2852640"/>
            <a:ext cx="8204400" cy="311004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10"/>
          <p:cNvSpPr/>
          <p:nvPr/>
        </p:nvSpPr>
        <p:spPr>
          <a:xfrm>
            <a:off x="4416480" y="4230720"/>
            <a:ext cx="3673440" cy="287280"/>
          </a:xfrm>
          <a:prstGeom prst="rect">
            <a:avLst/>
          </a:prstGeom>
          <a:solidFill>
            <a:srgbClr val="c8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35892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539640" indent="-179280">
              <a:spcBef>
                <a:spcPts val="4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719280" indent="-179640">
              <a:spcBef>
                <a:spcPts val="4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898560" indent="-179280">
              <a:spcBef>
                <a:spcPts val="4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conomy.gov.ru/minec/activity+/sections/macro/prognoz/indexprognoz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643280" y="131400"/>
            <a:ext cx="439272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ООО «Компания»</a:t>
            </a:r>
            <a:br>
              <a:rPr sz="2400"/>
            </a:br>
            <a:r>
              <a:rPr b="1" lang="ru-RU" sz="2400" spc="-1" strike="noStrike">
                <a:solidFill>
                  <a:srgbClr val="0066ff"/>
                </a:solidFill>
                <a:latin typeface="Arial"/>
                <a:ea typeface="Arial"/>
              </a:rPr>
              <a:t>Наименование проект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40" y="6543360"/>
            <a:ext cx="9142560" cy="3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Arial"/>
              </a:rPr>
              <a:t>Город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fld id="{A30D9903-79DA-4506-ABD0-512D45C0A7CF}" type="datetime3">
              <a:rPr b="1" lang="ru-RU" sz="16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4" name="Прямоугольник 1"/>
          <p:cNvSpPr/>
          <p:nvPr/>
        </p:nvSpPr>
        <p:spPr>
          <a:xfrm>
            <a:off x="0" y="6165720"/>
            <a:ext cx="9144000" cy="358920"/>
          </a:xfrm>
          <a:prstGeom prst="rect">
            <a:avLst/>
          </a:prstGeom>
          <a:solidFill>
            <a:srgbClr val="d4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666666"/>
                </a:solidFill>
                <a:latin typeface="Arial"/>
              </a:rPr>
              <a:t>Конфиденциально</a:t>
            </a:r>
            <a:endParaRPr b="0" lang="en-US" sz="19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24000" y="1052640"/>
            <a:ext cx="84247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spcAft>
                <a:spcPts val="1199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4343"/>
                </a:solidFill>
                <a:latin typeface="Arial"/>
                <a:ea typeface="ＭＳ Ｐゴシック"/>
              </a:rPr>
              <a:t>Для финансирования проекта Заявитель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ривлек инвестора (заключил соглашение о намерении инвестировать в проект) наименование инвестора с указанием формы инвестиций. Отразить аффилированность инвестора с Заявителем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Aft>
                <a:spcPts val="119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4343"/>
                </a:solidFill>
                <a:latin typeface="Arial"/>
                <a:ea typeface="ＭＳ Ｐゴシック"/>
              </a:rPr>
              <a:t>Профиль Инвестора: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краткие сведения о направлениях деятельности Инвестора, связанных с целями и работами по стадии проекта Заявителя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Aft>
                <a:spcPts val="119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Aft>
                <a:spcPts val="119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4343"/>
                </a:solidFill>
                <a:latin typeface="Arial"/>
                <a:ea typeface="ＭＳ Ｐゴシック"/>
              </a:rPr>
              <a:t>Опыт Инвестора: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рофильный опыт компании Инвестора в финансировании или реализации подобных проектов, достигнутые результаты по объему инвестиций и выходу из инвестиций и т.п.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Aft>
                <a:spcPts val="119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4343"/>
                </a:solidFill>
                <a:latin typeface="Arial"/>
                <a:ea typeface="ＭＳ Ｐゴシック"/>
              </a:rPr>
              <a:t>Финансовое состояние Инвестора: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ключевые параметры финансовой отчетности Инвестора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2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2A39-2A80-4B8C-B0EF-8BFBE32B4E7A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3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9D12-4A71-44E2-9FF7-F2B97BCF989B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вестор проек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BA0E-A62D-4A5B-81C0-F7851BF182B1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6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95A6-FBCA-4187-8E2A-0B7B8481B752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исание решения и технологи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23640" y="1145880"/>
            <a:ext cx="8523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тадия проекта 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номер стадии в соответствии с Грантовой политики Фонда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писание технологии: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кратко суть решения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писание новизны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кратко обоснование новизны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Текущее состояние и перспективы разработки: </a:t>
            </a:r>
            <a:br>
              <a:rPr sz="1600"/>
            </a:b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(1) текущее состояние НИОКР и параметры образцов, </a:t>
            </a:r>
            <a:br>
              <a:rPr sz="1600"/>
            </a:b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(2) планируемые этапы развития НИОКР и промежуточные целевые показатели, </a:t>
            </a:r>
            <a:br>
              <a:rPr sz="1600"/>
            </a:b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(3) что будет создано по результатам НИОКР и технические параметры конечной продукции в рамках стадии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проекта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Дорожная карта проекта представляется в Приложении к презентации в форме </a:t>
            </a: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Exc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324000" y="1145880"/>
            <a:ext cx="8424720" cy="31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 algn="just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уществующие решения на рынке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Наименования производителей (моделей) представленных на рынке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 algn="just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Ключевое отличие продукта проекта от существующих на рынке решений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 algn="just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Чем существующие на рынке решения не удовлетворяют сегодняшним и будущим потребностям рынка или как они могут быть критично улучшены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179280" indent="-179280" algn="just">
              <a:spcBef>
                <a:spcPts val="1199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Разработки аналогичных продуктов, о которых известно Заявителю. Ключевые отличия и сходства разрабатываемых решений, а также продукта проекта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1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637-2F62-48B6-AE93-7C66069D4D38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2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A320-4027-498F-AB49-C1E10B0FB2E1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ществующие и создаваемые продукты в сегменте рынк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5" name="Объект 2"/>
          <p:cNvSpPr/>
          <p:nvPr/>
        </p:nvSpPr>
        <p:spPr>
          <a:xfrm>
            <a:off x="320760" y="4321080"/>
            <a:ext cx="8426520" cy="20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Сравнение параметров продукта проекта с аналогами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403200" y="4743360"/>
          <a:ext cx="8282160" cy="1371600"/>
        </p:xfrm>
        <a:graphic>
          <a:graphicData uri="http://schemas.openxmlformats.org/drawingml/2006/table">
            <a:tbl>
              <a:tblPr/>
              <a:tblGrid>
                <a:gridCol w="1822320"/>
                <a:gridCol w="1143000"/>
                <a:gridCol w="731880"/>
                <a:gridCol w="1068480"/>
                <a:gridCol w="1069920"/>
                <a:gridCol w="1068480"/>
                <a:gridCol w="1378080"/>
              </a:tblGrid>
              <a:tr h="459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Наименование модели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Стадия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Страна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араметр 1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араметр 2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араметр 3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Цена</a:t>
                      </a: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родажи, </a:t>
                      </a: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$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Модель 1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на рынке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Модель 2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на рынке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Модель 3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в разработке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Модель 4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в разработке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24000" y="1125000"/>
            <a:ext cx="842472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 algn="just">
              <a:spcBef>
                <a:spcPts val="400"/>
              </a:spcBef>
              <a:spcAft>
                <a:spcPts val="1199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Цель проекта и определение конечного продукта проекта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8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B047-EFEC-4F4A-8D39-3774A5157B44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09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3034-DFBF-4B7E-AF87-4BDE4B50AD40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м сегмента рынка конечной продукции проек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Объект 2"/>
          <p:cNvSpPr/>
          <p:nvPr/>
        </p:nvSpPr>
        <p:spPr>
          <a:xfrm>
            <a:off x="324000" y="3860640"/>
            <a:ext cx="39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Спрос на </a:t>
            </a:r>
            <a:r>
              <a:rPr b="0" lang="ru-R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родукт в сегменте рынка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, </a:t>
            </a:r>
            <a:r>
              <a:rPr b="0" lang="ru-RU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шт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612" name="Chart 4" descr=""/>
          <p:cNvPicPr/>
          <p:nvPr/>
        </p:nvPicPr>
        <p:blipFill>
          <a:blip r:embed="rId2"/>
          <a:stretch/>
        </p:blipFill>
        <p:spPr>
          <a:xfrm>
            <a:off x="4937040" y="4151160"/>
            <a:ext cx="3699000" cy="2136960"/>
          </a:xfrm>
          <a:prstGeom prst="rect">
            <a:avLst/>
          </a:prstGeom>
          <a:ln w="0">
            <a:noFill/>
          </a:ln>
        </p:spPr>
      </p:pic>
      <p:sp>
        <p:nvSpPr>
          <p:cNvPr id="613" name="Объект 2"/>
          <p:cNvSpPr/>
          <p:nvPr/>
        </p:nvSpPr>
        <p:spPr>
          <a:xfrm>
            <a:off x="4859280" y="3860640"/>
            <a:ext cx="37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Оценка глобального рынка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, $ </a:t>
            </a:r>
            <a:r>
              <a:rPr b="0" lang="ru-RU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млрд</a:t>
            </a: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.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4" name="Объект 2"/>
          <p:cNvSpPr/>
          <p:nvPr/>
        </p:nvSpPr>
        <p:spPr>
          <a:xfrm>
            <a:off x="630360" y="6267600"/>
            <a:ext cx="3706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Источник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: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Компания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5" name="TextBox 2"/>
          <p:cNvSpPr/>
          <p:nvPr/>
        </p:nvSpPr>
        <p:spPr>
          <a:xfrm>
            <a:off x="1042920" y="6021360"/>
            <a:ext cx="28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2011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2015 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2020</a:t>
            </a:r>
            <a:endParaRPr b="0" lang="en-US" sz="1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6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7" name="Прямоугольник 3"/>
          <p:cNvSpPr/>
          <p:nvPr/>
        </p:nvSpPr>
        <p:spPr>
          <a:xfrm>
            <a:off x="324000" y="2087640"/>
            <a:ext cx="84247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179280" algn="just">
              <a:lnSpc>
                <a:spcPct val="100000"/>
              </a:lnSpc>
              <a:spcAft>
                <a:spcPts val="1199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Сегмент рынка, на который ориентирован продукт проекта</a:t>
            </a:r>
            <a:endParaRPr b="0" lang="en-US" sz="1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18" name="Прямоугольник 4"/>
          <p:cNvSpPr/>
          <p:nvPr/>
        </p:nvSpPr>
        <p:spPr>
          <a:xfrm>
            <a:off x="324000" y="3029040"/>
            <a:ext cx="8424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6040" indent="-1760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отенциальные потребители проекта, перечислите 5-10 компаний - потребителей продукции</a:t>
            </a:r>
            <a:endParaRPr b="0" lang="en-US" sz="16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619" name="Chart 3" descr=""/>
          <p:cNvPicPr/>
          <p:nvPr/>
        </p:nvPicPr>
        <p:blipFill>
          <a:blip r:embed="rId5"/>
          <a:stretch/>
        </p:blipFill>
        <p:spPr>
          <a:xfrm>
            <a:off x="590400" y="4110120"/>
            <a:ext cx="3605400" cy="2257200"/>
          </a:xfrm>
          <a:prstGeom prst="rect">
            <a:avLst/>
          </a:prstGeom>
          <a:ln w="0">
            <a:noFill/>
          </a:ln>
        </p:spPr>
      </p:pic>
      <p:sp>
        <p:nvSpPr>
          <p:cNvPr id="620" name="Объект 2"/>
          <p:cNvSpPr/>
          <p:nvPr/>
        </p:nvSpPr>
        <p:spPr>
          <a:xfrm>
            <a:off x="5027760" y="6267600"/>
            <a:ext cx="3706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Источник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: </a:t>
            </a:r>
            <a:r>
              <a:rPr b="0" lang="ru-RU" sz="12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Компания</a:t>
            </a:r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A2B9-4E36-4820-8D9B-788A9C75C5E1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2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8D16-25C5-46CA-B2B1-CD0CF34C0E0C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чет экономики предлагаемого решения для потребителя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457200" y="1222200"/>
          <a:ext cx="8356680" cy="3829320"/>
        </p:xfrm>
        <a:graphic>
          <a:graphicData uri="http://schemas.openxmlformats.org/drawingml/2006/table">
            <a:tbl>
              <a:tblPr/>
              <a:tblGrid>
                <a:gridCol w="3490920"/>
                <a:gridCol w="309600"/>
                <a:gridCol w="969840"/>
                <a:gridCol w="679680"/>
                <a:gridCol w="680760"/>
                <a:gridCol w="681120"/>
                <a:gridCol w="679320"/>
                <a:gridCol w="865440"/>
              </a:tblGrid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*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3621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потребителя в натуральном выражении, 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д. изм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потребления энергоресурсов потребителем до внедрения предложенного решени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потребления энергоресурсов потребителем после внедрения предложенного решени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энергоресурсов в натуральном выражении 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)-(2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ф на энергоресурс***, руб. / ед. изм.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3193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для потребителя, руб.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потребителя на покупку решени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траты на внедрение решени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на оплате энергоресурсов потребителем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3)*(4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тая экономия потребител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7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ежный поток для потребителя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(5)-(6)+(7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7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7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432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контированный денежный поток для потребителя****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)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0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1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2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3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4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4320">
                      <a:solidFill>
                        <a:srgbClr val="595959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(10)*rN</a:t>
                      </a:r>
                      <a:endParaRPr b="0" lang="en-US" sz="10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432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432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6" name="TextBox 6"/>
          <p:cNvSpPr/>
          <p:nvPr/>
        </p:nvSpPr>
        <p:spPr>
          <a:xfrm>
            <a:off x="457200" y="5186520"/>
            <a:ext cx="848520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* Год периода осуществления инвестиций должен соответствовать дате выхода продукта на рынок</a:t>
            </a:r>
            <a:endParaRPr b="0" lang="en-US" sz="11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** Горизонт планирования должен быть не менее срока окупаемости предложенного потребителю решения</a:t>
            </a:r>
            <a:endParaRPr b="0" lang="en-US" sz="11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*** Средний тариф в целевом сегменте рынка соответствующего года (с указанием источника, напр. прогноз 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МЭР России</a:t>
            </a: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)</a:t>
            </a:r>
            <a:endParaRPr b="0" lang="en-US" sz="11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**** Коэффициент дисконтирования: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Arial"/>
              </a:rPr>
              <a:t>выбирается Заявителем и должен быть приведен здесь</a:t>
            </a:r>
            <a:endParaRPr b="0" lang="en-US" sz="11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595959"/>
                </a:solidFill>
                <a:latin typeface="Arial"/>
                <a:ea typeface="Arial"/>
              </a:rPr>
              <a:t>Простой срок окупаемости решения для потребителя, исходя из приведенного выше расчета, составляет: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Arial"/>
              </a:rPr>
              <a:t>указывается здесь</a:t>
            </a:r>
            <a:endParaRPr b="0" lang="en-US" sz="11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315C-DE16-4828-889A-061F75790937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8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3FB6-9AE6-418F-B70A-2D706FA588B5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а интеллектуальной собственност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1" name="Объект 2"/>
          <p:cNvSpPr/>
          <p:nvPr/>
        </p:nvSpPr>
        <p:spPr>
          <a:xfrm>
            <a:off x="324000" y="1146240"/>
            <a:ext cx="842472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1792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Все права на интеллектуальную собственность, разработанную в рамках проекта будут принадлежать: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равообладатель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lvl="1" marL="179280" indent="-1792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Заявитель планирует (подать заявления о выдаче) следующих патентов: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lvl="2" marL="466560" indent="-2854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атент 1 (краткое описание)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lvl="2" marL="466560" indent="-2854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атент 2 (краткое описание)</a:t>
            </a: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 lvl="1" marL="179280" indent="-17928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В проекте будут использованы патенты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правообладатели</a:t>
            </a: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на основании </a:t>
            </a:r>
            <a:r>
              <a:rPr b="0" lang="ru-RU" sz="18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форма передачи прав на использование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2" name="Объект 2"/>
          <p:cNvSpPr/>
          <p:nvPr/>
        </p:nvSpPr>
        <p:spPr>
          <a:xfrm>
            <a:off x="320760" y="4549680"/>
            <a:ext cx="842652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План по защите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P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403200" y="4911840"/>
          <a:ext cx="8282160" cy="1371600"/>
        </p:xfrm>
        <a:graphic>
          <a:graphicData uri="http://schemas.openxmlformats.org/drawingml/2006/table">
            <a:tbl>
              <a:tblPr/>
              <a:tblGrid>
                <a:gridCol w="1822320"/>
                <a:gridCol w="1016280"/>
                <a:gridCol w="1015920"/>
                <a:gridCol w="1017720"/>
                <a:gridCol w="1015920"/>
                <a:gridCol w="1015920"/>
                <a:gridCol w="1378080"/>
              </a:tblGrid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Мероприятия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ол. 2012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ол. 2012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ол. 201</a:t>
                      </a: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II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ол. 201</a:t>
                      </a: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2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пол 2014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Подача заявления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Получение патента 1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Получение патента 2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Получение патента 3</a:t>
                      </a:r>
                      <a:endParaRPr b="0" lang="en-US" sz="12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0BB5-E761-4349-92E3-163D8C6E12EF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5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C5D6-0FAB-4CE5-8E28-07D2969510B1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Схема, диаграммы для разъяснения решения (при необх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5920" y="1052640"/>
            <a:ext cx="8920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324000" y="1196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Фамилия Имя Отчество, страна проживания, возраст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оль в проекте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описание ключевых функций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лжность в компании: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наименование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spcAft>
                <a:spcPts val="11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фера деятельности и опыт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меющие отношение к сути проекта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179280" indent="-17928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Фамилия Имя Отчество, страна проживания, возраст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оль в проекте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описание ключевых функций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лжность в компании: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наименование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spcAft>
                <a:spcPts val="11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фера деятельности и опыт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меющие отношение к сути проекта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179280" indent="-17928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Фамилия Имя Отчество, страна проживания, возраст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оль в проекте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описание ключевых функций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лжность в компании: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 наименование</a:t>
            </a: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528480" indent="-180720" algn="just">
              <a:spcBef>
                <a:spcPts val="300"/>
              </a:spcBef>
              <a:spcAft>
                <a:spcPts val="1199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фера деятельности и опыт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</a:rPr>
              <a:t>имеющие отношение к сути проекта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0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E4AD-89AC-4BCC-8E0D-06FFEC99EE78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1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C496-76F6-415B-9714-1706E14F0F44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нда проекта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324000" y="1052640"/>
            <a:ext cx="842472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-179280">
              <a:spcAft>
                <a:spcPts val="1199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34343"/>
                </a:solidFill>
                <a:latin typeface="Arial"/>
                <a:ea typeface="ＭＳ Ｐゴシック"/>
              </a:rPr>
              <a:t>Грант Сколково позволит: </a:t>
            </a:r>
            <a:r>
              <a:rPr b="0" lang="ru-RU" sz="1600" spc="-1" strike="noStrike">
                <a:solidFill>
                  <a:srgbClr val="0066ff"/>
                </a:solidFill>
                <a:latin typeface="Arial"/>
                <a:ea typeface="ＭＳ Ｐゴシック"/>
              </a:rPr>
              <a:t>описание целей, на которые будет использован грант, какие результаты достигнет компания, применив средства гран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5" name="Дата 22"/>
          <p:cNvSpPr/>
          <p:nvPr/>
        </p:nvSpPr>
        <p:spPr>
          <a:xfrm>
            <a:off x="115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0965-45AF-42D7-8430-70BD7E20823B}" type="datetime">
              <a:rPr b="0" lang="ru-RU" sz="1200" spc="-1" strike="noStrike">
                <a:solidFill>
                  <a:srgbClr val="9a9a9a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6" name="Номер слайда 23"/>
          <p:cNvSpPr/>
          <p:nvPr/>
        </p:nvSpPr>
        <p:spPr>
          <a:xfrm>
            <a:off x="6875640" y="6543720"/>
            <a:ext cx="21603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680B-8AD0-47B9-A833-652BCA7DD454}" type="slidenum">
              <a:rPr b="0" lang="ru-RU" sz="1200" spc="-1" strike="noStrike">
                <a:solidFill>
                  <a:srgbClr val="9a9a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64360" cy="86508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т партнерства со Сколково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Нижний колонтитул 19"/>
          <p:cNvSpPr/>
          <p:nvPr/>
        </p:nvSpPr>
        <p:spPr>
          <a:xfrm>
            <a:off x="3125880" y="6543720"/>
            <a:ext cx="2895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a9a9a"/>
                </a:solidFill>
                <a:latin typeface="Arial"/>
              </a:rPr>
              <a:t>Конфиденциально</a:t>
            </a:r>
            <a:endParaRPr b="0" lang="en-US" sz="1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49" name="Объект 2"/>
          <p:cNvSpPr/>
          <p:nvPr/>
        </p:nvSpPr>
        <p:spPr>
          <a:xfrm>
            <a:off x="320760" y="2030400"/>
            <a:ext cx="842652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Бюджет стадии проекта, млн. руб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611280" y="2398680"/>
          <a:ext cx="8254800" cy="4191120"/>
        </p:xfrm>
        <a:graphic>
          <a:graphicData uri="http://schemas.openxmlformats.org/drawingml/2006/table">
            <a:tbl>
              <a:tblPr/>
              <a:tblGrid>
                <a:gridCol w="2259000"/>
                <a:gridCol w="722160"/>
                <a:gridCol w="647640"/>
                <a:gridCol w="646200"/>
                <a:gridCol w="647640"/>
                <a:gridCol w="646200"/>
                <a:gridCol w="647640"/>
                <a:gridCol w="647640"/>
                <a:gridCol w="646200"/>
                <a:gridCol w="744480"/>
              </a:tblGrid>
              <a:tr h="1468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 бюджета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кв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финансирования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нд "Сколково"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именование соинвестора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 расходов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EX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: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1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2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…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X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.: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1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2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…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№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жи (если применимо)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й объем продаж, млн. руб.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7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1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4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2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ие 3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емые измеримые результаты и их ключевые параметры в соответствии с дорожной картой проекта</a:t>
                      </a: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595959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95959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595959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595959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3:18:48Z</dcterms:created>
  <dc:creator>Kravtsov Dmitry</dc:creator>
  <dc:description/>
  <dc:language>en-US</dc:language>
  <cp:lastModifiedBy>Skibin Anton</cp:lastModifiedBy>
  <cp:lastPrinted>2011-11-23T07:32:36Z</cp:lastPrinted>
  <dcterms:modified xsi:type="dcterms:W3CDTF">2011-12-26T13:55:47Z</dcterms:modified>
  <cp:revision>632</cp:revision>
  <dc:subject/>
  <dc:title>Презентация PowerPoint</dc:title>
</cp:coreProperties>
</file>